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52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29.png" ContentType="image/png"/>
  <Override PartName="/ppt/media/image66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19.jpeg" ContentType="image/jpeg"/>
  <Override PartName="/ppt/media/image57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24.png" ContentType="image/png"/>
  <Override PartName="/ppt/media/image28.png" ContentType="image/png"/>
  <Override PartName="/ppt/media/image21.jpeg" ContentType="image/jpeg"/>
  <Override PartName="/ppt/media/image6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4E14-A425-4772-AD53-9F6ED6F596F1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6B46-9324-40B6-92FB-925AB999F455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EAA7-83AD-4730-AA40-FD11068F0F8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19DF-D88D-4957-9535-E58F6BDE9B27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4A31-007A-4F20-A6DF-220EA6B047A2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B193-F9A8-4B17-8025-EB1E6F46433A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C8C4-8238-416D-9B9F-0CE41313DFC9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F915-7D43-438A-91BB-061D1A102E4E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0CAE-0741-4FDE-A83D-2F2A63D92E55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075-B15C-413F-A96E-EFF9599DF36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E523-6CFE-48E3-A383-9A6977B83A5F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B829-C15B-4C4B-B085-0ECAE042FEC6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861F-44F9-4F0E-923B-79F81363B6E9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B898-184F-4CC3-88CB-F631C89FF33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E04D-DD11-4BC1-9CC7-2F6C1195DC0E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3C4-6ADB-4A88-8BD3-F80A6658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CB2-6971-465F-BD3F-ADC65574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560-FB0A-49DD-9987-80BD69A4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ACB-3A15-466E-9CC0-42D2CF96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750-F3F2-43C8-A638-4A5D03F6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BFD-A0C1-4B8D-ADEB-A3C2D951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666-8273-48FF-99F7-6BFB6685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5BA-A677-44AE-AE4C-59AFB8AE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2A7-9248-4D16-AFB0-9D9D60C6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F0D-0D2B-447B-9BA5-82182605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1C4-1728-4E3C-BB82-505D6709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FAF-B13A-484D-ACBC-CF1582D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48E-C2FE-4503-B18D-ADC3C6010345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2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3051000"/>
            <a:ext cx="91440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LA EVALUACIÓN EN LA RI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79280" y="905040"/>
            <a:ext cx="8810640" cy="5619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810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1280" y="825480"/>
            <a:ext cx="90727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370240" y="1341360"/>
            <a:ext cx="1049400" cy="136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340000" y="2816280"/>
            <a:ext cx="1079640" cy="1404720"/>
          </a:xfrm>
          <a:prstGeom prst="rect">
            <a:avLst/>
          </a:prstGeom>
          <a:ln w="0">
            <a:noFill/>
          </a:ln>
        </p:spPr>
      </p:pic>
      <p:sp>
        <p:nvSpPr>
          <p:cNvPr id="248" name="4 Rectángulo"/>
          <p:cNvSpPr/>
          <p:nvPr/>
        </p:nvSpPr>
        <p:spPr>
          <a:xfrm>
            <a:off x="2195640" y="83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011 -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8" descr=""/>
          <p:cNvPicPr/>
          <p:nvPr/>
        </p:nvPicPr>
        <p:blipFill>
          <a:blip r:embed="rId3"/>
          <a:stretch/>
        </p:blipFill>
        <p:spPr>
          <a:xfrm>
            <a:off x="258840" y="1327320"/>
            <a:ext cx="1139760" cy="1525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4"/>
          <a:stretch/>
        </p:blipFill>
        <p:spPr>
          <a:xfrm>
            <a:off x="611280" y="1844640"/>
            <a:ext cx="1001520" cy="1244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5"/>
          <a:stretch/>
        </p:blipFill>
        <p:spPr>
          <a:xfrm>
            <a:off x="133200" y="2637000"/>
            <a:ext cx="982800" cy="1225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6"/>
          <a:stretch/>
        </p:blipFill>
        <p:spPr>
          <a:xfrm>
            <a:off x="900000" y="3141720"/>
            <a:ext cx="1000080" cy="1243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7"/>
          <a:stretch/>
        </p:blipFill>
        <p:spPr>
          <a:xfrm>
            <a:off x="179280" y="3716280"/>
            <a:ext cx="933480" cy="1225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8"/>
          <a:stretch/>
        </p:blipFill>
        <p:spPr>
          <a:xfrm>
            <a:off x="900000" y="4365720"/>
            <a:ext cx="914400" cy="12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"/>
          <p:cNvPicPr/>
          <p:nvPr/>
        </p:nvPicPr>
        <p:blipFill>
          <a:blip r:embed="rId9"/>
          <a:stretch/>
        </p:blipFill>
        <p:spPr>
          <a:xfrm>
            <a:off x="2340000" y="4365720"/>
            <a:ext cx="1092240" cy="1511280"/>
          </a:xfrm>
          <a:prstGeom prst="rect">
            <a:avLst/>
          </a:prstGeom>
          <a:ln w="9360">
            <a:solidFill>
              <a:srgbClr val="783f04"/>
            </a:solidFill>
            <a:miter/>
          </a:ln>
        </p:spPr>
      </p:pic>
      <p:pic>
        <p:nvPicPr>
          <p:cNvPr id="256" name="Picture 3" descr=""/>
          <p:cNvPicPr/>
          <p:nvPr/>
        </p:nvPicPr>
        <p:blipFill>
          <a:blip r:embed="rId10"/>
          <a:stretch/>
        </p:blipFill>
        <p:spPr>
          <a:xfrm>
            <a:off x="250920" y="5084640"/>
            <a:ext cx="917640" cy="1203480"/>
          </a:xfrm>
          <a:prstGeom prst="rect">
            <a:avLst/>
          </a:prstGeom>
          <a:ln w="0">
            <a:noFill/>
          </a:ln>
        </p:spPr>
      </p:pic>
      <p:sp>
        <p:nvSpPr>
          <p:cNvPr id="257" name="13 Flecha en U"/>
          <p:cNvSpPr/>
          <p:nvPr/>
        </p:nvSpPr>
        <p:spPr>
          <a:xfrm flipV="1">
            <a:off x="1332000" y="5877000"/>
            <a:ext cx="1655640" cy="720720"/>
          </a:xfrm>
          <a:custGeom>
            <a:avLst/>
            <a:gdLst/>
            <a:ahLst/>
            <a:rect l="l" t="t" r="r" b="b"/>
            <a:pathLst>
              <a:path w="1655762" h="720725">
                <a:moveTo>
                  <a:pt x="0" y="720725"/>
                </a:moveTo>
                <a:lnTo>
                  <a:pt x="0" y="315317"/>
                </a:lnTo>
                <a:lnTo>
                  <a:pt x="0" y="315317"/>
                </a:lnTo>
                <a:arcTo wR="315317" hR="315317" stAng="10800000" swAng="5400011"/>
                <a:lnTo>
                  <a:pt x="1250354" y="0"/>
                </a:lnTo>
                <a:lnTo>
                  <a:pt x="1250354" y="0"/>
                </a:lnTo>
                <a:arcTo wR="315317" hR="315317" stAng="-5400000" swAng="5400011"/>
                <a:lnTo>
                  <a:pt x="1565671" y="360363"/>
                </a:lnTo>
                <a:lnTo>
                  <a:pt x="1655762" y="360363"/>
                </a:lnTo>
                <a:lnTo>
                  <a:pt x="1475581" y="540544"/>
                </a:lnTo>
                <a:lnTo>
                  <a:pt x="1295400" y="360363"/>
                </a:lnTo>
                <a:lnTo>
                  <a:pt x="1385490" y="360363"/>
                </a:lnTo>
                <a:lnTo>
                  <a:pt x="1385490" y="315317"/>
                </a:lnTo>
                <a:lnTo>
                  <a:pt x="1385490" y="315317"/>
                </a:lnTo>
                <a:arcTo wR="135136" hR="135136" stAng="0" swAng="-5400000"/>
                <a:lnTo>
                  <a:pt x="315317" y="180181"/>
                </a:lnTo>
                <a:lnTo>
                  <a:pt x="315317" y="180181"/>
                </a:lnTo>
                <a:arcTo wR="135136" hR="135136" stAng="-5400000" swAng="-5400000"/>
                <a:lnTo>
                  <a:pt x="180181" y="720725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4 Flecha en U"/>
          <p:cNvSpPr/>
          <p:nvPr/>
        </p:nvSpPr>
        <p:spPr>
          <a:xfrm flipV="1">
            <a:off x="3132000" y="5950080"/>
            <a:ext cx="1008360" cy="836640"/>
          </a:xfrm>
          <a:custGeom>
            <a:avLst/>
            <a:gdLst/>
            <a:ahLst/>
            <a:rect l="l" t="t" r="r" b="b"/>
            <a:pathLst>
              <a:path w="1008062" h="836613">
                <a:moveTo>
                  <a:pt x="0" y="836613"/>
                </a:moveTo>
                <a:lnTo>
                  <a:pt x="0" y="352373"/>
                </a:lnTo>
                <a:lnTo>
                  <a:pt x="0" y="352373"/>
                </a:lnTo>
                <a:arcTo wR="352373" hR="352373" stAng="10800000" swAng="5400010"/>
                <a:lnTo>
                  <a:pt x="551112" y="0"/>
                </a:lnTo>
                <a:lnTo>
                  <a:pt x="551112" y="0"/>
                </a:lnTo>
                <a:arcTo wR="352373" hR="352373" stAng="-5400000" swAng="5400010"/>
                <a:lnTo>
                  <a:pt x="903485" y="386557"/>
                </a:lnTo>
                <a:lnTo>
                  <a:pt x="1008062" y="386557"/>
                </a:lnTo>
                <a:lnTo>
                  <a:pt x="798909" y="612936"/>
                </a:lnTo>
                <a:lnTo>
                  <a:pt x="589756" y="386557"/>
                </a:lnTo>
                <a:lnTo>
                  <a:pt x="694332" y="386557"/>
                </a:lnTo>
                <a:lnTo>
                  <a:pt x="694332" y="352373"/>
                </a:lnTo>
                <a:lnTo>
                  <a:pt x="694332" y="352373"/>
                </a:lnTo>
                <a:arcTo wR="143220" hR="143220" stAng="0" swAng="-5400000"/>
                <a:lnTo>
                  <a:pt x="352373" y="209153"/>
                </a:lnTo>
                <a:lnTo>
                  <a:pt x="352373" y="209153"/>
                </a:lnTo>
                <a:arcTo wR="143220" hR="143220" stAng="-5400000" swAng="-5400000"/>
                <a:lnTo>
                  <a:pt x="209153" y="836613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1"/>
          <a:stretch/>
        </p:blipFill>
        <p:spPr>
          <a:xfrm>
            <a:off x="4067280" y="1628640"/>
            <a:ext cx="1278000" cy="160992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pic>
        <p:nvPicPr>
          <p:cNvPr id="260" name="Picture 3" descr=""/>
          <p:cNvPicPr/>
          <p:nvPr/>
        </p:nvPicPr>
        <p:blipFill>
          <a:blip r:embed="rId12"/>
          <a:stretch/>
        </p:blipFill>
        <p:spPr>
          <a:xfrm>
            <a:off x="5508720" y="1628640"/>
            <a:ext cx="1224000" cy="159084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sp>
        <p:nvSpPr>
          <p:cNvPr id="261" name="18 Rectángulo"/>
          <p:cNvSpPr/>
          <p:nvPr/>
        </p:nvSpPr>
        <p:spPr>
          <a:xfrm>
            <a:off x="3635280" y="5732640"/>
            <a:ext cx="5292720" cy="39888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tapa para conocer estándares y camb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3"/>
          <a:stretch/>
        </p:blipFill>
        <p:spPr>
          <a:xfrm>
            <a:off x="6875640" y="1557360"/>
            <a:ext cx="1441440" cy="122544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pic>
        <p:nvPicPr>
          <p:cNvPr id="263" name="Picture 5" descr=""/>
          <p:cNvPicPr/>
          <p:nvPr/>
        </p:nvPicPr>
        <p:blipFill>
          <a:blip r:embed="rId14"/>
          <a:stretch/>
        </p:blipFill>
        <p:spPr>
          <a:xfrm>
            <a:off x="7380360" y="2205000"/>
            <a:ext cx="1368360" cy="116352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sp>
        <p:nvSpPr>
          <p:cNvPr id="264" name="21 Flecha doblada hacia arriba"/>
          <p:cNvSpPr/>
          <p:nvPr/>
        </p:nvSpPr>
        <p:spPr>
          <a:xfrm flipV="1">
            <a:off x="3635280" y="1051560"/>
            <a:ext cx="2305080" cy="431640"/>
          </a:xfrm>
          <a:custGeom>
            <a:avLst/>
            <a:gdLst>
              <a:gd name="textAreaLeft" fmla="*/ 0 w 2305080"/>
              <a:gd name="textAreaRight" fmla="*/ 2251440 w 2305080"/>
              <a:gd name="textAreaTop" fmla="*/ 323640 h 431640"/>
              <a:gd name="textAreaBottom" fmla="*/ 431640 h 431640"/>
            </a:gdLst>
            <a:ahLst/>
            <a:rect l="textAreaLeft" t="textAreaTop" r="textAreaRight" b="textAreaBottom"/>
            <a:pathLst>
              <a:path w="2305050" h="431800">
                <a:moveTo>
                  <a:pt x="0" y="323850"/>
                </a:moveTo>
                <a:lnTo>
                  <a:pt x="2143125" y="323850"/>
                </a:lnTo>
                <a:lnTo>
                  <a:pt x="2143125" y="107950"/>
                </a:lnTo>
                <a:lnTo>
                  <a:pt x="2089150" y="107950"/>
                </a:lnTo>
                <a:lnTo>
                  <a:pt x="2197100" y="0"/>
                </a:lnTo>
                <a:lnTo>
                  <a:pt x="2305050" y="107950"/>
                </a:lnTo>
                <a:lnTo>
                  <a:pt x="2251075" y="107950"/>
                </a:lnTo>
                <a:lnTo>
                  <a:pt x="2251075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22 Rectángulo" descr=""/>
          <p:cNvPicPr/>
          <p:nvPr/>
        </p:nvPicPr>
        <p:blipFill>
          <a:blip r:embed="rId15"/>
          <a:stretch/>
        </p:blipFill>
        <p:spPr>
          <a:xfrm>
            <a:off x="4243320" y="774720"/>
            <a:ext cx="1298520" cy="530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16"/>
          <a:stretch/>
        </p:blipFill>
        <p:spPr>
          <a:xfrm>
            <a:off x="4140360" y="3789360"/>
            <a:ext cx="1190520" cy="94464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pic>
        <p:nvPicPr>
          <p:cNvPr id="267" name="Picture 5" descr=""/>
          <p:cNvPicPr/>
          <p:nvPr/>
        </p:nvPicPr>
        <p:blipFill>
          <a:blip r:embed="rId17"/>
          <a:stretch/>
        </p:blipFill>
        <p:spPr>
          <a:xfrm>
            <a:off x="4140360" y="4869000"/>
            <a:ext cx="2663640" cy="558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18"/>
          <a:stretch/>
        </p:blipFill>
        <p:spPr>
          <a:xfrm>
            <a:off x="5508720" y="3789360"/>
            <a:ext cx="1272960" cy="91116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cxnSp>
        <p:nvCxnSpPr>
          <p:cNvPr id="269" name="28 Conector recto de flecha"/>
          <p:cNvCxnSpPr/>
          <p:nvPr/>
        </p:nvCxnSpPr>
        <p:spPr>
          <a:xfrm>
            <a:off x="3780000" y="5587560"/>
            <a:ext cx="496944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270" name="29 Flecha arriba"/>
          <p:cNvSpPr/>
          <p:nvPr/>
        </p:nvSpPr>
        <p:spPr>
          <a:xfrm>
            <a:off x="5076720" y="3284640"/>
            <a:ext cx="863640" cy="3603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8 Rectángulo"/>
          <p:cNvSpPr/>
          <p:nvPr/>
        </p:nvSpPr>
        <p:spPr>
          <a:xfrm>
            <a:off x="971640" y="1873080"/>
            <a:ext cx="7129440" cy="3110040"/>
          </a:xfrm>
          <a:prstGeom prst="rect">
            <a:avLst/>
          </a:prstGeom>
          <a:solidFill>
            <a:srgbClr val="ff0000"/>
          </a:solidFill>
          <a:ln w="9360">
            <a:solidFill>
              <a:srgbClr val="9e25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Arial"/>
              </a:rPr>
              <a:t>COMENTARIOS FINA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9 Rectángulo"/>
          <p:cNvSpPr/>
          <p:nvPr/>
        </p:nvSpPr>
        <p:spPr>
          <a:xfrm>
            <a:off x="4311720" y="599112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¡GRACIAS POR SU ATENCIÓ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40000" y="1125000"/>
            <a:ext cx="64800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ÁLISIS DEL CONCEPT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REFORMA EVDUCATIV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ACUERDO 5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51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54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57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6 Rectángulo"/>
          <p:cNvGrpSpPr/>
          <p:nvPr/>
        </p:nvGrpSpPr>
        <p:grpSpPr>
          <a:xfrm>
            <a:off x="115920" y="2200320"/>
            <a:ext cx="1773360" cy="555480"/>
            <a:chOff x="115920" y="2200320"/>
            <a:chExt cx="1773360" cy="555480"/>
          </a:xfrm>
        </p:grpSpPr>
        <p:pic>
          <p:nvPicPr>
            <p:cNvPr id="60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79280" y="2235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63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67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70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73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6 Rectángulo"/>
          <p:cNvGrpSpPr/>
          <p:nvPr/>
        </p:nvGrpSpPr>
        <p:grpSpPr>
          <a:xfrm>
            <a:off x="115920" y="2200320"/>
            <a:ext cx="1779480" cy="530280"/>
            <a:chOff x="115920" y="2200320"/>
            <a:chExt cx="1779480" cy="530280"/>
          </a:xfrm>
        </p:grpSpPr>
        <p:pic>
          <p:nvPicPr>
            <p:cNvPr id="76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9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79280" y="22352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MPETENCI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79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6516720" y="836640"/>
            <a:ext cx="1141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9600"/>
                </a:moveTo>
                <a:lnTo>
                  <a:pt x="43536" y="29169"/>
                </a:lnTo>
                <a:lnTo>
                  <a:pt x="43536" y="94270"/>
                </a:lnTo>
                <a:lnTo>
                  <a:pt x="20122" y="114642"/>
                </a:lnTo>
              </a:path>
            </a:pathLst>
          </a:custGeom>
          <a:noFill/>
          <a:ln w="9360">
            <a:solidFill>
              <a:srgbClr val="5f4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556000" y="2870280"/>
            <a:ext cx="6264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70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so de obten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s-ES" sz="1800" spc="-1" strike="noStrike">
                <a:solidFill>
                  <a:srgbClr val="4f6228"/>
                </a:solidFill>
                <a:latin typeface="Arial"/>
                <a:ea typeface="Times New Roman"/>
              </a:rPr>
              <a:t>sintetizar e interpretar inform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facilitar l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ma de decisiones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0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Airasian, Peter W. “La evaluación en el salón de clases”. SEP 2002, página 8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556000" y="1557360"/>
            <a:ext cx="5688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81" y="4531"/>
                </a:moveTo>
                <a:lnTo>
                  <a:pt x="-1611" y="6421"/>
                </a:lnTo>
                <a:lnTo>
                  <a:pt x="-1579" y="20472"/>
                </a:lnTo>
                <a:lnTo>
                  <a:pt x="3966" y="30921"/>
                </a:lnTo>
              </a:path>
            </a:pathLst>
          </a:custGeom>
          <a:noFill/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formación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ualitativ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Cualidades = Evidencias =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uantitativ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Cantidades = Medición =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rtific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 flipH="1">
            <a:off x="2411280" y="4076640"/>
            <a:ext cx="2881440" cy="256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70" y="1408"/>
                </a:moveTo>
                <a:lnTo>
                  <a:pt x="23453" y="1293"/>
                </a:lnTo>
                <a:lnTo>
                  <a:pt x="23350" y="-4992"/>
                </a:lnTo>
                <a:lnTo>
                  <a:pt x="19966" y="-7997"/>
                </a:ln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odelos cuantitativ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-  Estadíst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-   Análisis de probabilidad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istas de cotejo de bala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odelos cualitativ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  Matrices inferen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-   Matrices fact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istas de cotejo con rúbr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ix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-  Estudios de c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5724360" y="4076640"/>
            <a:ext cx="2656080" cy="23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6" y="1386"/>
                </a:moveTo>
                <a:lnTo>
                  <a:pt x="25068" y="-2918"/>
                </a:lnTo>
                <a:lnTo>
                  <a:pt x="20474" y="-5765"/>
                </a:lnTo>
                <a:lnTo>
                  <a:pt x="16857" y="-6589"/>
                </a:lnTo>
              </a:path>
            </a:pathLst>
          </a:custGeom>
          <a:noFill/>
          <a:ln w="93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toma de deci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ficientes, efica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ertinentes, relevantes, suficientes y equitativas son directamente proporcional a la calidad educativ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5 Rectángulo" descr=""/>
          <p:cNvPicPr/>
          <p:nvPr/>
        </p:nvPicPr>
        <p:blipFill>
          <a:blip r:embed="rId6"/>
          <a:stretch/>
        </p:blipFill>
        <p:spPr>
          <a:xfrm>
            <a:off x="8478720" y="1457280"/>
            <a:ext cx="53208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16 Rectángulo" descr=""/>
          <p:cNvPicPr/>
          <p:nvPr/>
        </p:nvPicPr>
        <p:blipFill>
          <a:blip r:embed="rId7"/>
          <a:stretch/>
        </p:blipFill>
        <p:spPr>
          <a:xfrm>
            <a:off x="2139840" y="1017720"/>
            <a:ext cx="1640160" cy="1317600"/>
          </a:xfrm>
          <a:prstGeom prst="rect">
            <a:avLst/>
          </a:prstGeom>
          <a:ln w="0">
            <a:noFill/>
          </a:ln>
        </p:spPr>
      </p:pic>
      <p:pic>
        <p:nvPicPr>
          <p:cNvPr id="89" name="17 Rectángulo" descr=""/>
          <p:cNvPicPr/>
          <p:nvPr/>
        </p:nvPicPr>
        <p:blipFill>
          <a:blip r:embed="rId8"/>
          <a:stretch/>
        </p:blipFill>
        <p:spPr>
          <a:xfrm>
            <a:off x="4267080" y="3633840"/>
            <a:ext cx="1427400" cy="1328760"/>
          </a:xfrm>
          <a:prstGeom prst="rect">
            <a:avLst/>
          </a:prstGeom>
          <a:ln w="0">
            <a:noFill/>
          </a:ln>
        </p:spPr>
      </p:pic>
      <p:pic>
        <p:nvPicPr>
          <p:cNvPr id="90" name="18 Rectángulo" descr=""/>
          <p:cNvPicPr/>
          <p:nvPr/>
        </p:nvPicPr>
        <p:blipFill>
          <a:blip r:embed="rId9"/>
          <a:stretch/>
        </p:blipFill>
        <p:spPr>
          <a:xfrm>
            <a:off x="7120080" y="5522760"/>
            <a:ext cx="18349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92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95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98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6 Rectángulo"/>
          <p:cNvGrpSpPr/>
          <p:nvPr/>
        </p:nvGrpSpPr>
        <p:grpSpPr>
          <a:xfrm>
            <a:off x="115920" y="2200320"/>
            <a:ext cx="1779480" cy="530280"/>
            <a:chOff x="115920" y="2200320"/>
            <a:chExt cx="1779480" cy="530280"/>
          </a:xfrm>
        </p:grpSpPr>
        <p:pic>
          <p:nvPicPr>
            <p:cNvPr id="101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9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79280" y="22352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MPETENCI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104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9 Imagen" descr="mundo-pequeno1.jpg"/>
          <p:cNvPicPr/>
          <p:nvPr/>
        </p:nvPicPr>
        <p:blipFill>
          <a:blip r:embed="rId6">
            <a:lum contrast="10000"/>
          </a:blip>
          <a:stretch/>
        </p:blipFill>
        <p:spPr>
          <a:xfrm>
            <a:off x="3059280" y="1125360"/>
            <a:ext cx="4968720" cy="4970520"/>
          </a:xfrm>
          <a:prstGeom prst="rect">
            <a:avLst/>
          </a:prstGeom>
          <a:ln w="0">
            <a:noFill/>
          </a:ln>
        </p:spPr>
      </p:pic>
      <p:pic>
        <p:nvPicPr>
          <p:cNvPr id="108" name="20 Imagen" descr="cfbe079a089db07f46ad0d6a8e26c71f.jpg"/>
          <p:cNvPicPr/>
          <p:nvPr/>
        </p:nvPicPr>
        <p:blipFill>
          <a:blip r:embed="rId7"/>
          <a:stretch/>
        </p:blipFill>
        <p:spPr>
          <a:xfrm>
            <a:off x="2195640" y="907920"/>
            <a:ext cx="1655640" cy="1163880"/>
          </a:xfrm>
          <a:prstGeom prst="rect">
            <a:avLst/>
          </a:prstGeom>
          <a:ln w="0">
            <a:noFill/>
          </a:ln>
        </p:spPr>
      </p:pic>
      <p:sp>
        <p:nvSpPr>
          <p:cNvPr id="109" name="30 Rectángulo"/>
          <p:cNvSpPr/>
          <p:nvPr/>
        </p:nvSpPr>
        <p:spPr>
          <a:xfrm>
            <a:off x="2340000" y="2060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EN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>
            <a:off x="2340000" y="486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TRAB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4 Rectángulo"/>
          <p:cNvSpPr/>
          <p:nvPr/>
        </p:nvSpPr>
        <p:spPr>
          <a:xfrm>
            <a:off x="6732720" y="540540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LACIONA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4 Rectángulo"/>
          <p:cNvSpPr/>
          <p:nvPr/>
        </p:nvSpPr>
        <p:spPr>
          <a:xfrm>
            <a:off x="2122560" y="2390760"/>
            <a:ext cx="15858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ABER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0 Rectángulo"/>
          <p:cNvSpPr/>
          <p:nvPr/>
        </p:nvSpPr>
        <p:spPr>
          <a:xfrm>
            <a:off x="6948360" y="5732640"/>
            <a:ext cx="16542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ABER CONVIV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6 Rectángulo"/>
          <p:cNvSpPr/>
          <p:nvPr/>
        </p:nvSpPr>
        <p:spPr>
          <a:xfrm>
            <a:off x="7308720" y="2276640"/>
            <a:ext cx="1511280" cy="8254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alibri"/>
              </a:rPr>
              <a:t>SABER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7 Rectángulo"/>
          <p:cNvSpPr/>
          <p:nvPr/>
        </p:nvSpPr>
        <p:spPr>
          <a:xfrm>
            <a:off x="4224960" y="3133800"/>
            <a:ext cx="245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9ead5"/>
                </a:solidFill>
                <a:latin typeface="Arial"/>
              </a:rPr>
              <a:t>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9ead5"/>
                </a:solidFill>
                <a:latin typeface="Arial"/>
              </a:rPr>
              <a:t>CAMBIANTES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9ead5"/>
                </a:solidFill>
                <a:latin typeface="Arial"/>
              </a:rPr>
              <a:t>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8 Imagen" descr="bullying.gif"/>
          <p:cNvPicPr/>
          <p:nvPr/>
        </p:nvPicPr>
        <p:blipFill>
          <a:blip r:embed="rId8"/>
          <a:stretch/>
        </p:blipFill>
        <p:spPr>
          <a:xfrm>
            <a:off x="7095960" y="4726080"/>
            <a:ext cx="1363680" cy="718920"/>
          </a:xfrm>
          <a:prstGeom prst="rect">
            <a:avLst/>
          </a:prstGeom>
          <a:ln w="0">
            <a:noFill/>
          </a:ln>
        </p:spPr>
      </p:pic>
      <p:pic>
        <p:nvPicPr>
          <p:cNvPr id="117" name="29 Imagen" descr="bullying-739607.png"/>
          <p:cNvPicPr/>
          <p:nvPr/>
        </p:nvPicPr>
        <p:blipFill>
          <a:blip r:embed="rId9"/>
          <a:stretch/>
        </p:blipFill>
        <p:spPr>
          <a:xfrm>
            <a:off x="5796000" y="5789520"/>
            <a:ext cx="1139760" cy="1068480"/>
          </a:xfrm>
          <a:prstGeom prst="rect">
            <a:avLst/>
          </a:prstGeom>
          <a:ln w="0">
            <a:noFill/>
          </a:ln>
        </p:spPr>
      </p:pic>
      <p:pic>
        <p:nvPicPr>
          <p:cNvPr id="118" name="30 Imagen" descr="thumbnail.jpg"/>
          <p:cNvPicPr/>
          <p:nvPr/>
        </p:nvPicPr>
        <p:blipFill>
          <a:blip r:embed="rId10"/>
          <a:stretch/>
        </p:blipFill>
        <p:spPr>
          <a:xfrm>
            <a:off x="7380360" y="836640"/>
            <a:ext cx="1184040" cy="1185840"/>
          </a:xfrm>
          <a:prstGeom prst="rect">
            <a:avLst/>
          </a:prstGeom>
          <a:ln w="0">
            <a:noFill/>
          </a:ln>
        </p:spPr>
      </p:pic>
      <p:sp>
        <p:nvSpPr>
          <p:cNvPr id="119" name="32 Rectángulo"/>
          <p:cNvSpPr/>
          <p:nvPr/>
        </p:nvSpPr>
        <p:spPr>
          <a:xfrm>
            <a:off x="7308720" y="191628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PR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32 Imagen" descr="Dir-2-25-childlabour-483-ht.jpg"/>
          <p:cNvPicPr/>
          <p:nvPr/>
        </p:nvPicPr>
        <p:blipFill>
          <a:blip r:embed="rId11"/>
          <a:stretch/>
        </p:blipFill>
        <p:spPr>
          <a:xfrm>
            <a:off x="2124000" y="3716280"/>
            <a:ext cx="1258920" cy="1227240"/>
          </a:xfrm>
          <a:prstGeom prst="rect">
            <a:avLst/>
          </a:prstGeom>
          <a:ln w="0">
            <a:noFill/>
          </a:ln>
        </p:spPr>
      </p:pic>
      <p:sp>
        <p:nvSpPr>
          <p:cNvPr id="121" name="33 Rectángulo"/>
          <p:cNvSpPr/>
          <p:nvPr/>
        </p:nvSpPr>
        <p:spPr>
          <a:xfrm>
            <a:off x="2411280" y="5300640"/>
            <a:ext cx="1297080" cy="825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ABER 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34 Imagen" descr="trabajo_duro.jpg"/>
          <p:cNvPicPr/>
          <p:nvPr/>
        </p:nvPicPr>
        <p:blipFill>
          <a:blip r:embed="rId12"/>
          <a:stretch/>
        </p:blipFill>
        <p:spPr>
          <a:xfrm>
            <a:off x="3780000" y="5842080"/>
            <a:ext cx="1029960" cy="10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124" name="5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6 Rectángulo"/>
          <p:cNvGrpSpPr/>
          <p:nvPr/>
        </p:nvGrpSpPr>
        <p:grpSpPr>
          <a:xfrm>
            <a:off x="115920" y="2200320"/>
            <a:ext cx="1779480" cy="530280"/>
            <a:chOff x="115920" y="2200320"/>
            <a:chExt cx="1779480" cy="530280"/>
          </a:xfrm>
        </p:grpSpPr>
        <p:pic>
          <p:nvPicPr>
            <p:cNvPr id="127" name="6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2200320"/>
              <a:ext cx="1779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79280" y="22352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MPETENCI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130" name="7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1 Flecha derecha"/>
          <p:cNvSpPr/>
          <p:nvPr/>
        </p:nvSpPr>
        <p:spPr>
          <a:xfrm>
            <a:off x="2195640" y="1197000"/>
            <a:ext cx="6840360" cy="1440000"/>
          </a:xfrm>
          <a:prstGeom prst="rightArrow">
            <a:avLst>
              <a:gd name="adj1" fmla="val 73880"/>
              <a:gd name="adj2" fmla="val 27380"/>
            </a:avLst>
          </a:pr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4125960"/>
          <a:ext cx="1835280" cy="2612880"/>
        </p:xfrm>
        <a:graphic>
          <a:graphicData uri="http://schemas.openxmlformats.org/drawingml/2006/table">
            <a:tbl>
              <a:tblPr/>
              <a:tblGrid>
                <a:gridCol w="1835280"/>
              </a:tblGrid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ON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.PEDAGÓG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. EPIS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 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grpSp>
        <p:nvGrpSpPr>
          <p:cNvPr id="135" name="21 Grupo"/>
          <p:cNvGrpSpPr/>
          <p:nvPr/>
        </p:nvGrpSpPr>
        <p:grpSpPr>
          <a:xfrm>
            <a:off x="2268360" y="1413000"/>
            <a:ext cx="2951280" cy="2591640"/>
            <a:chOff x="2268360" y="1413000"/>
            <a:chExt cx="2951280" cy="2591640"/>
          </a:xfrm>
        </p:grpSpPr>
        <p:sp>
          <p:nvSpPr>
            <p:cNvPr id="136" name="31 Flecha derecha"/>
            <p:cNvSpPr/>
            <p:nvPr/>
          </p:nvSpPr>
          <p:spPr>
            <a:xfrm flipV="1" rot="5400000">
              <a:off x="2262600" y="2471400"/>
              <a:ext cx="2282760" cy="782640"/>
            </a:xfrm>
            <a:prstGeom prst="rightArrow">
              <a:avLst>
                <a:gd name="adj1" fmla="val 50000"/>
                <a:gd name="adj2" fmla="val 136034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31 Flecha derecha"/>
            <p:cNvSpPr/>
            <p:nvPr/>
          </p:nvSpPr>
          <p:spPr>
            <a:xfrm flipV="1" rot="10800000">
              <a:off x="2268360" y="1413000"/>
              <a:ext cx="2951280" cy="955440"/>
            </a:xfrm>
            <a:prstGeom prst="rightArrow">
              <a:avLst>
                <a:gd name="adj1" fmla="val 72259"/>
                <a:gd name="adj2" fmla="val 15902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REFORMA 197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14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139" name="14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15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142" name="15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21 Rectángulo"/>
          <p:cNvSpPr/>
          <p:nvPr/>
        </p:nvSpPr>
        <p:spPr>
          <a:xfrm>
            <a:off x="2124000" y="806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DUCACIÓN  OFICIAL EN  M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195640" y="4106880"/>
          <a:ext cx="2087280" cy="2614680"/>
        </p:xfrm>
        <a:graphic>
          <a:graphicData uri="http://schemas.openxmlformats.org/drawingml/2006/table">
            <a:tbl>
              <a:tblPr/>
              <a:tblGrid>
                <a:gridCol w="2087280"/>
              </a:tblGrid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ERI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ICLOPED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EÑAN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427640" y="4121280"/>
          <a:ext cx="2305080" cy="260640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EÑADOR DE ACTIVIDAD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V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0360" y="4118040"/>
          <a:ext cx="2195640" cy="262872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EÑADOR DESITUACION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. - PRODU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pic>
        <p:nvPicPr>
          <p:cNvPr id="148" name="30 Flecha doblada" descr=""/>
          <p:cNvPicPr/>
          <p:nvPr/>
        </p:nvPicPr>
        <p:blipFill>
          <a:blip r:embed="rId6"/>
          <a:stretch/>
        </p:blipFill>
        <p:spPr>
          <a:xfrm>
            <a:off x="2182680" y="2865600"/>
            <a:ext cx="6772320" cy="1584000"/>
          </a:xfrm>
          <a:prstGeom prst="rect">
            <a:avLst/>
          </a:prstGeom>
          <a:ln w="0">
            <a:noFill/>
          </a:ln>
        </p:spPr>
      </p:pic>
      <p:sp>
        <p:nvSpPr>
          <p:cNvPr id="149" name="31 Flecha derecha"/>
          <p:cNvSpPr/>
          <p:nvPr/>
        </p:nvSpPr>
        <p:spPr>
          <a:xfrm rot="5400000">
            <a:off x="4175640" y="2169360"/>
            <a:ext cx="2808360" cy="86364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FORMA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31 Flecha derecha" descr=""/>
          <p:cNvPicPr/>
          <p:nvPr/>
        </p:nvPicPr>
        <p:blipFill>
          <a:blip r:embed="rId7"/>
          <a:stretch/>
        </p:blipFill>
        <p:spPr>
          <a:xfrm>
            <a:off x="5846760" y="1182600"/>
            <a:ext cx="2779560" cy="2835360"/>
          </a:xfrm>
          <a:prstGeom prst="rect">
            <a:avLst/>
          </a:prstGeom>
          <a:ln w="0">
            <a:noFill/>
          </a:ln>
        </p:spPr>
      </p:pic>
      <p:sp>
        <p:nvSpPr>
          <p:cNvPr id="151" name="31 Flecha derecha"/>
          <p:cNvSpPr/>
          <p:nvPr/>
        </p:nvSpPr>
        <p:spPr>
          <a:xfrm rot="5400000">
            <a:off x="6589440" y="2131920"/>
            <a:ext cx="2808360" cy="93816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IEB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2 Rectángulo"/>
          <p:cNvGrpSpPr/>
          <p:nvPr/>
        </p:nvGrpSpPr>
        <p:grpSpPr>
          <a:xfrm>
            <a:off x="115920" y="1590840"/>
            <a:ext cx="1798560" cy="549000"/>
            <a:chOff x="115920" y="1590840"/>
            <a:chExt cx="1798560" cy="549000"/>
          </a:xfrm>
        </p:grpSpPr>
        <p:pic>
          <p:nvPicPr>
            <p:cNvPr id="153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156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5 Rectángulo"/>
          <p:cNvGrpSpPr/>
          <p:nvPr/>
        </p:nvGrpSpPr>
        <p:grpSpPr>
          <a:xfrm>
            <a:off x="115920" y="2822400"/>
            <a:ext cx="1773360" cy="573120"/>
            <a:chOff x="115920" y="2822400"/>
            <a:chExt cx="1773360" cy="573120"/>
          </a:xfrm>
        </p:grpSpPr>
        <p:pic>
          <p:nvPicPr>
            <p:cNvPr id="159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6 Rectángulo"/>
          <p:cNvGrpSpPr/>
          <p:nvPr/>
        </p:nvGrpSpPr>
        <p:grpSpPr>
          <a:xfrm>
            <a:off x="115920" y="2200320"/>
            <a:ext cx="1773360" cy="555480"/>
            <a:chOff x="115920" y="2200320"/>
            <a:chExt cx="1773360" cy="555480"/>
          </a:xfrm>
        </p:grpSpPr>
        <p:pic>
          <p:nvPicPr>
            <p:cNvPr id="162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79280" y="2235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165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01560" y="921960"/>
            <a:ext cx="598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¿QUÉ ES UNA COMPETENCIA?”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169" name="3 Imagen" descr="Mesa%20Comedor%20MSCM-04TR-T.jpg"/>
          <p:cNvPicPr/>
          <p:nvPr/>
        </p:nvPicPr>
        <p:blipFill>
          <a:blip r:embed="rId6"/>
          <a:stretch/>
        </p:blipFill>
        <p:spPr>
          <a:xfrm>
            <a:off x="2484360" y="1557360"/>
            <a:ext cx="604836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11 Llamada de flecha hacia arriba" descr=""/>
          <p:cNvPicPr/>
          <p:nvPr/>
        </p:nvPicPr>
        <p:blipFill>
          <a:blip r:embed="rId7"/>
          <a:stretch/>
        </p:blipFill>
        <p:spPr>
          <a:xfrm>
            <a:off x="2395440" y="3121200"/>
            <a:ext cx="1042920" cy="3419280"/>
          </a:xfrm>
          <a:prstGeom prst="rect">
            <a:avLst/>
          </a:prstGeom>
          <a:ln w="0">
            <a:noFill/>
          </a:ln>
        </p:spPr>
      </p:pic>
      <p:pic>
        <p:nvPicPr>
          <p:cNvPr id="171" name="12 Llamada de flecha hacia arriba" descr=""/>
          <p:cNvPicPr/>
          <p:nvPr/>
        </p:nvPicPr>
        <p:blipFill>
          <a:blip r:embed="rId8"/>
          <a:stretch/>
        </p:blipFill>
        <p:spPr>
          <a:xfrm>
            <a:off x="3687840" y="2762280"/>
            <a:ext cx="1189080" cy="3778200"/>
          </a:xfrm>
          <a:prstGeom prst="rect">
            <a:avLst/>
          </a:prstGeom>
          <a:ln w="0">
            <a:noFill/>
          </a:ln>
        </p:spPr>
      </p:pic>
      <p:pic>
        <p:nvPicPr>
          <p:cNvPr id="172" name="13 Llamada de flecha hacia arriba" descr=""/>
          <p:cNvPicPr/>
          <p:nvPr/>
        </p:nvPicPr>
        <p:blipFill>
          <a:blip r:embed="rId9"/>
          <a:stretch/>
        </p:blipFill>
        <p:spPr>
          <a:xfrm>
            <a:off x="7650000" y="3267000"/>
            <a:ext cx="1043280" cy="3273480"/>
          </a:xfrm>
          <a:prstGeom prst="rect">
            <a:avLst/>
          </a:prstGeom>
          <a:ln w="0">
            <a:noFill/>
          </a:ln>
        </p:spPr>
      </p:pic>
      <p:pic>
        <p:nvPicPr>
          <p:cNvPr id="173" name="14 Llamada de flecha hacia arriba" descr=""/>
          <p:cNvPicPr/>
          <p:nvPr/>
        </p:nvPicPr>
        <p:blipFill>
          <a:blip r:embed="rId10"/>
          <a:stretch/>
        </p:blipFill>
        <p:spPr>
          <a:xfrm>
            <a:off x="6291360" y="3773520"/>
            <a:ext cx="1249200" cy="2766960"/>
          </a:xfrm>
          <a:prstGeom prst="rect">
            <a:avLst/>
          </a:prstGeom>
          <a:ln w="0">
            <a:noFill/>
          </a:ln>
        </p:spPr>
      </p:pic>
      <p:grpSp>
        <p:nvGrpSpPr>
          <p:cNvPr id="174" name="17 Explosión 1"/>
          <p:cNvGrpSpPr/>
          <p:nvPr/>
        </p:nvGrpSpPr>
        <p:grpSpPr>
          <a:xfrm>
            <a:off x="2060640" y="1158840"/>
            <a:ext cx="6742080" cy="5297400"/>
            <a:chOff x="2060640" y="1158840"/>
            <a:chExt cx="6742080" cy="5297400"/>
          </a:xfrm>
        </p:grpSpPr>
        <p:pic>
          <p:nvPicPr>
            <p:cNvPr id="175" name="17 Explosión 1" descr=""/>
            <p:cNvPicPr/>
            <p:nvPr/>
          </p:nvPicPr>
          <p:blipFill>
            <a:blip r:embed="rId11"/>
            <a:stretch/>
          </p:blipFill>
          <p:spPr>
            <a:xfrm>
              <a:off x="2060640" y="1158840"/>
              <a:ext cx="6742080" cy="52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543480" y="2712960"/>
              <a:ext cx="3703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Capacidad que tiene una persona para movilizar todos sus recursos y resolver una situación que le demanda su contex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178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181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184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6 Rectángulo"/>
          <p:cNvGrpSpPr/>
          <p:nvPr/>
        </p:nvGrpSpPr>
        <p:grpSpPr>
          <a:xfrm>
            <a:off x="115920" y="2200320"/>
            <a:ext cx="1773360" cy="555480"/>
            <a:chOff x="115920" y="2200320"/>
            <a:chExt cx="1773360" cy="555480"/>
          </a:xfrm>
        </p:grpSpPr>
        <p:pic>
          <p:nvPicPr>
            <p:cNvPr id="187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79280" y="2235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190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8" descr=""/>
          <p:cNvPicPr/>
          <p:nvPr/>
        </p:nvPicPr>
        <p:blipFill>
          <a:blip r:embed="rId6"/>
          <a:stretch/>
        </p:blipFill>
        <p:spPr>
          <a:xfrm>
            <a:off x="2195640" y="4149720"/>
            <a:ext cx="6697440" cy="2519280"/>
          </a:xfrm>
          <a:prstGeom prst="rect">
            <a:avLst/>
          </a:prstGeom>
          <a:ln w="0">
            <a:noFill/>
          </a:ln>
        </p:spPr>
      </p:pic>
      <p:sp>
        <p:nvSpPr>
          <p:cNvPr id="194" name="33 Llamada con línea 3"/>
          <p:cNvSpPr/>
          <p:nvPr/>
        </p:nvSpPr>
        <p:spPr>
          <a:xfrm>
            <a:off x="3419640" y="2997360"/>
            <a:ext cx="273672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6056" y="27633"/>
                </a:lnTo>
                <a:lnTo>
                  <a:pt x="-2983" y="41679"/>
                </a:lnTo>
              </a:path>
            </a:pathLst>
          </a:custGeom>
          <a:solidFill>
            <a:srgbClr val="f07f09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ela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TOP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4 Llamada con línea 3"/>
          <p:cNvSpPr/>
          <p:nvPr/>
        </p:nvSpPr>
        <p:spPr>
          <a:xfrm>
            <a:off x="324000" y="4149720"/>
            <a:ext cx="1511280" cy="230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2041" y="22984"/>
                </a:moveTo>
                <a:lnTo>
                  <a:pt x="15505" y="25031"/>
                </a:lnTo>
                <a:lnTo>
                  <a:pt x="26500" y="22260"/>
                </a:lnTo>
                <a:lnTo>
                  <a:pt x="32381" y="14283"/>
                </a:lnTo>
              </a:path>
            </a:pathLst>
          </a:custGeom>
          <a:solidFill>
            <a:srgbClr val="b3d6ac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ela activa de ´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ret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ibre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5 Rectángulo"/>
          <p:cNvSpPr/>
          <p:nvPr/>
        </p:nvSpPr>
        <p:spPr>
          <a:xfrm>
            <a:off x="2340000" y="1484280"/>
            <a:ext cx="6335640" cy="459720"/>
          </a:xfrm>
          <a:prstGeom prst="rect">
            <a:avLst/>
          </a:pr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rrículo =  carrera – carretera =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36 Llamada con línea 3"/>
          <p:cNvSpPr/>
          <p:nvPr/>
        </p:nvSpPr>
        <p:spPr>
          <a:xfrm>
            <a:off x="6732720" y="2276640"/>
            <a:ext cx="2160360" cy="165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2041" y="22984"/>
                </a:moveTo>
                <a:lnTo>
                  <a:pt x="1995" y="27701"/>
                </a:lnTo>
                <a:lnTo>
                  <a:pt x="-8279" y="20469"/>
                </a:lnTo>
                <a:lnTo>
                  <a:pt x="-50705" y="53175"/>
                </a:lnTo>
              </a:path>
            </a:pathLst>
          </a:custGeom>
          <a:solidFill>
            <a:srgbClr val="1b587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rret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ibre Estatal /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199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202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205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6 Rectángulo"/>
          <p:cNvGrpSpPr/>
          <p:nvPr/>
        </p:nvGrpSpPr>
        <p:grpSpPr>
          <a:xfrm>
            <a:off x="115920" y="2200320"/>
            <a:ext cx="1773360" cy="555480"/>
            <a:chOff x="115920" y="2200320"/>
            <a:chExt cx="1773360" cy="555480"/>
          </a:xfrm>
        </p:grpSpPr>
        <p:pic>
          <p:nvPicPr>
            <p:cNvPr id="208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79280" y="2235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7 Rectángulo"/>
          <p:cNvGrpSpPr/>
          <p:nvPr/>
        </p:nvGrpSpPr>
        <p:grpSpPr>
          <a:xfrm>
            <a:off x="115920" y="3419640"/>
            <a:ext cx="1798560" cy="572760"/>
            <a:chOff x="115920" y="3419640"/>
            <a:chExt cx="1798560" cy="572760"/>
          </a:xfrm>
        </p:grpSpPr>
        <p:pic>
          <p:nvPicPr>
            <p:cNvPr id="211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33 Tabla" descr=""/>
          <p:cNvPicPr/>
          <p:nvPr/>
        </p:nvPicPr>
        <p:blipFill>
          <a:blip r:embed="rId6"/>
          <a:stretch/>
        </p:blipFill>
        <p:spPr>
          <a:xfrm>
            <a:off x="2554200" y="1341360"/>
            <a:ext cx="6340680" cy="4827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7"/>
          <a:stretch/>
        </p:blipFill>
        <p:spPr>
          <a:xfrm>
            <a:off x="179280" y="4076640"/>
            <a:ext cx="1079640" cy="140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8"/>
          <a:stretch/>
        </p:blipFill>
        <p:spPr>
          <a:xfrm>
            <a:off x="900000" y="5084640"/>
            <a:ext cx="1071720" cy="1395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"/>
          <p:cNvPicPr/>
          <p:nvPr/>
        </p:nvPicPr>
        <p:blipFill>
          <a:blip r:embed="rId9"/>
          <a:stretch/>
        </p:blipFill>
        <p:spPr>
          <a:xfrm>
            <a:off x="2830680" y="2982960"/>
            <a:ext cx="1137960" cy="1525680"/>
          </a:xfrm>
          <a:prstGeom prst="rect">
            <a:avLst/>
          </a:prstGeom>
          <a:ln w="0">
            <a:noFill/>
          </a:ln>
        </p:spPr>
      </p:pic>
      <p:sp>
        <p:nvSpPr>
          <p:cNvPr id="218" name="36 Rectángulo"/>
          <p:cNvSpPr/>
          <p:nvPr/>
        </p:nvSpPr>
        <p:spPr>
          <a:xfrm>
            <a:off x="4135680" y="90792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ducación 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10"/>
          <a:stretch/>
        </p:blipFill>
        <p:spPr>
          <a:xfrm>
            <a:off x="4262400" y="2924280"/>
            <a:ext cx="1001880" cy="1244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11"/>
          <a:stretch/>
        </p:blipFill>
        <p:spPr>
          <a:xfrm>
            <a:off x="4656240" y="3645000"/>
            <a:ext cx="982440" cy="122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12"/>
          <a:stretch/>
        </p:blipFill>
        <p:spPr>
          <a:xfrm>
            <a:off x="4278240" y="4632480"/>
            <a:ext cx="1000080" cy="1244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13"/>
          <a:stretch/>
        </p:blipFill>
        <p:spPr>
          <a:xfrm>
            <a:off x="2124000" y="3098880"/>
            <a:ext cx="408240" cy="617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"/>
          <p:cNvPicPr/>
          <p:nvPr/>
        </p:nvPicPr>
        <p:blipFill>
          <a:blip r:embed="rId14"/>
          <a:stretch/>
        </p:blipFill>
        <p:spPr>
          <a:xfrm>
            <a:off x="2109960" y="4935600"/>
            <a:ext cx="434880" cy="72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15"/>
          <a:stretch/>
        </p:blipFill>
        <p:spPr>
          <a:xfrm>
            <a:off x="2124000" y="4024440"/>
            <a:ext cx="428760" cy="556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16"/>
          <a:stretch/>
        </p:blipFill>
        <p:spPr>
          <a:xfrm>
            <a:off x="5783400" y="2940120"/>
            <a:ext cx="933480" cy="122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17"/>
          <a:stretch/>
        </p:blipFill>
        <p:spPr>
          <a:xfrm>
            <a:off x="6300720" y="3714840"/>
            <a:ext cx="914400" cy="12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18"/>
          <a:stretch/>
        </p:blipFill>
        <p:spPr>
          <a:xfrm>
            <a:off x="7740720" y="4508640"/>
            <a:ext cx="934920" cy="1296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19"/>
          <a:stretch/>
        </p:blipFill>
        <p:spPr>
          <a:xfrm>
            <a:off x="5770440" y="4673520"/>
            <a:ext cx="917640" cy="120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0" descr=""/>
          <p:cNvPicPr/>
          <p:nvPr/>
        </p:nvPicPr>
        <p:blipFill>
          <a:blip r:embed="rId20">
            <a:lum contrast="-10000"/>
          </a:blip>
          <a:stretch/>
        </p:blipFill>
        <p:spPr>
          <a:xfrm>
            <a:off x="7335720" y="2938320"/>
            <a:ext cx="765360" cy="765360"/>
          </a:xfrm>
          <a:prstGeom prst="rect">
            <a:avLst/>
          </a:prstGeom>
          <a:ln w="9360">
            <a:solidFill>
              <a:srgbClr val="89c3e5"/>
            </a:solidFill>
            <a:miter/>
          </a:ln>
        </p:spPr>
      </p:pic>
      <p:pic>
        <p:nvPicPr>
          <p:cNvPr id="230" name="Picture 21" descr=""/>
          <p:cNvPicPr/>
          <p:nvPr/>
        </p:nvPicPr>
        <p:blipFill>
          <a:blip r:embed="rId21">
            <a:lum contrast="-10000"/>
          </a:blip>
          <a:stretch/>
        </p:blipFill>
        <p:spPr>
          <a:xfrm>
            <a:off x="7667640" y="3284640"/>
            <a:ext cx="720720" cy="720720"/>
          </a:xfrm>
          <a:prstGeom prst="rect">
            <a:avLst/>
          </a:prstGeom>
          <a:ln w="9360">
            <a:solidFill>
              <a:srgbClr val="8ec182"/>
            </a:solidFill>
            <a:miter/>
          </a:ln>
        </p:spPr>
      </p:pic>
      <p:pic>
        <p:nvPicPr>
          <p:cNvPr id="231" name="Picture 22" descr=""/>
          <p:cNvPicPr/>
          <p:nvPr/>
        </p:nvPicPr>
        <p:blipFill>
          <a:blip r:embed="rId22"/>
          <a:stretch/>
        </p:blipFill>
        <p:spPr>
          <a:xfrm>
            <a:off x="8028000" y="3540240"/>
            <a:ext cx="72072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7 Rectángulo"/>
          <p:cNvGrpSpPr/>
          <p:nvPr/>
        </p:nvGrpSpPr>
        <p:grpSpPr>
          <a:xfrm>
            <a:off x="115920" y="871560"/>
            <a:ext cx="1798560" cy="555480"/>
            <a:chOff x="115920" y="871560"/>
            <a:chExt cx="1798560" cy="555480"/>
          </a:xfrm>
        </p:grpSpPr>
        <p:pic>
          <p:nvPicPr>
            <p:cNvPr id="233" name="7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87156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79280" y="9079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ACUERDO</a:t>
              </a:r>
              <a:r>
                <a:rPr b="1" lang="es-ES_tradnl" sz="1600" spc="-1" strike="noStrike">
                  <a:solidFill>
                    <a:srgbClr val="fde5cd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79280" y="1701720"/>
            <a:ext cx="1656000" cy="215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179280" y="4226040"/>
            <a:ext cx="1656000" cy="2155680"/>
          </a:xfrm>
          <a:prstGeom prst="rect">
            <a:avLst/>
          </a:prstGeom>
          <a:ln w="0">
            <a:noFill/>
          </a:ln>
        </p:spPr>
      </p:pic>
      <p:grpSp>
        <p:nvGrpSpPr>
          <p:cNvPr id="237" name="29 Rectángulo"/>
          <p:cNvGrpSpPr/>
          <p:nvPr/>
        </p:nvGrpSpPr>
        <p:grpSpPr>
          <a:xfrm>
            <a:off x="1987560" y="878040"/>
            <a:ext cx="6973920" cy="506160"/>
            <a:chOff x="1987560" y="878040"/>
            <a:chExt cx="6973920" cy="506160"/>
          </a:xfrm>
        </p:grpSpPr>
        <p:pic>
          <p:nvPicPr>
            <p:cNvPr id="238" name="29 Rectángulo" descr=""/>
            <p:cNvPicPr/>
            <p:nvPr/>
          </p:nvPicPr>
          <p:blipFill>
            <a:blip r:embed="rId4"/>
            <a:stretch/>
          </p:blipFill>
          <p:spPr>
            <a:xfrm>
              <a:off x="1987560" y="878040"/>
              <a:ext cx="697392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065320" y="912960"/>
              <a:ext cx="68407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Arial"/>
                </a:rPr>
                <a:t>POR EL QUE SE ESTABLECE LA ARTICULACIÓN DE LA EDUCACIÓN BÁS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2" descr=""/>
          <p:cNvPicPr/>
          <p:nvPr/>
        </p:nvPicPr>
        <p:blipFill>
          <a:blip r:embed="rId5"/>
          <a:stretch/>
        </p:blipFill>
        <p:spPr>
          <a:xfrm>
            <a:off x="2124000" y="1413000"/>
            <a:ext cx="5565960" cy="5445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6"/>
          <a:stretch/>
        </p:blipFill>
        <p:spPr>
          <a:xfrm>
            <a:off x="4979880" y="4869000"/>
            <a:ext cx="416412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9:39:20Z</dcterms:created>
  <dc:creator>direccion de tecnologias usebeq</dc:creator>
  <dc:description/>
  <dc:language>en-US</dc:language>
  <cp:lastModifiedBy>Jef. Sec. Prim. 3</cp:lastModifiedBy>
  <cp:lastPrinted>2011-01-12T16:44:30Z</cp:lastPrinted>
  <dcterms:modified xsi:type="dcterms:W3CDTF">2011-11-23T02:28:59Z</dcterms:modified>
  <cp:revision>194</cp:revision>
  <dc:subject/>
  <dc:title>Presentación de PowerPoint</dc:title>
</cp:coreProperties>
</file>